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E1E-C869-4347-8816-65C6B463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00C-E702-4C72-907F-69F61341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05B-7447-42F5-99D7-7A4ED9DF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5EB-4486-4D02-B983-FF807663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FDA-32C2-4F1F-8866-179D38AF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48A-E632-469E-A130-AF7A1EA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732-AA37-45EE-A801-DBA61EE1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2A9-7372-4B9A-AA43-C0367EA0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0A0-E101-4476-9C64-9C8018F3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375-7501-40E7-A0C9-DFB2177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B68-619C-4864-9206-59B3921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EA1-AC79-44BD-985C-9B735492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B026-0EEA-4D73-8DD0-562905884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1295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mework Hel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038120" y="5334120"/>
            <a:ext cx="4876920" cy="1218960"/>
          </a:xfrm>
          <a:prstGeom prst="rect">
            <a:avLst/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by Step help for homework sheet on ratios in m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19126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  The scale of a map is 3 cm = 2 km map:  1 c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ual:  ________ k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9144000" cy="36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really a simple ratio problem.  The scale of the map can be stated as 3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438280"/>
            <a:ext cx="624852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eans that if you measure 3 centimetres on the map, it represents 2 kilometres in real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800" y="3200400"/>
            <a:ext cx="81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equivalent fractions, make sure you note which term is re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00400" y="3809880"/>
                <a:ext cx="152388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669040" y="40384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5360" y="48006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809880"/>
            <a:ext cx="344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issing information is km, so the </a:t>
            </a: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ust go as the denominator (bottom) because in the original ratio, we put kms on the bott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410080"/>
            <a:ext cx="2747160" cy="3682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0560" y="5943600"/>
            <a:ext cx="2067840" cy="368280"/>
          </a:xfrm>
          <a:prstGeom prst="rect">
            <a:avLst/>
          </a:prstGeom>
          <a:solidFill>
            <a:srgbClr val="33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0.66666 k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5867280"/>
            <a:ext cx="32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nd off to hundredths.  (two decimal pl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6361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8800" y="6453360"/>
            <a:ext cx="168804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0000"/>
                </a:solidFill>
                <a:latin typeface="Arial"/>
              </a:rPr>
              <a:t>ϰ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= 0.67 kms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480" y="55990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2057400" cy="20142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f you can’t remember how to cross multiply or round off, go to the math website and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  The scale of a map is 3 in = ____ m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:  1 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ual:  4 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905120"/>
            <a:ext cx="8591400" cy="642600"/>
          </a:xfrm>
          <a:prstGeom prst="rect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still the same type of question.  In this example, you need to calculate th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819520"/>
            <a:ext cx="8474040" cy="642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still set up equivalent fractions, taking care to make sure that each term is where it bel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09880" y="3505320"/>
                <a:ext cx="165096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363400" y="38098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9720" y="4724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962520"/>
            <a:ext cx="1600200" cy="1191240"/>
          </a:xfrm>
          <a:prstGeom prst="rect">
            <a:avLst/>
          </a:prstGeom>
          <a:solidFill>
            <a:srgbClr val="9933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o note what each term re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7320" y="4191120"/>
            <a:ext cx="2759400" cy="36828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 as U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3280" y="5486400"/>
            <a:ext cx="1951560" cy="459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12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9040" y="6248520"/>
            <a:ext cx="8049240" cy="368280"/>
          </a:xfrm>
          <a:prstGeom prst="rect">
            <a:avLst/>
          </a:prstGeom>
          <a:solidFill>
            <a:srgbClr val="ff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sure you include the right unit (in this case miles) for you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03:57Z</dcterms:created>
  <dc:creator>admin</dc:creator>
  <dc:description/>
  <dc:language>en-US</dc:language>
  <cp:lastModifiedBy>admin</cp:lastModifiedBy>
  <dcterms:modified xsi:type="dcterms:W3CDTF">2007-12-03T13:17:09Z</dcterms:modified>
  <cp:revision>7</cp:revision>
  <dc:subject/>
  <dc:title>Homework Help </dc:title>
</cp:coreProperties>
</file>